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15.wmf" ContentType="image/x-wmf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9.jpeg" ContentType="image/jpeg"/>
  <Override PartName="/ppt/media/image8.png" ContentType="image/png"/>
  <Override PartName="/ppt/media/image41.wmf" ContentType="image/x-wmf"/>
  <Override PartName="/ppt/media/image32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0B1-A1C0-47C3-B39C-0F4D847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DCD-FB1F-4CA1-884A-77BE93CA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B0E-0C67-446E-8124-5A6560BC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C15-800E-448F-97A6-B068D03D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32BF-886B-4B55-A7FE-13ADB3DB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FC9-1D98-4DCC-88F2-75B48D0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7EBA-3A5E-4ABC-970B-813B91C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56CB-2E3E-473E-999E-936920C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6FF-6E49-410F-A822-79BEE538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0A39-78D3-40E2-BE8F-2240DE16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68ED-7EB4-432B-8C68-F7AFE6E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B63-F441-42F0-99C8-F59AAF36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5A36-BAC4-44B5-B880-7CA3B078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0128-8A0A-448F-82A6-2F7B830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1523-33E0-4ABD-8AA1-82C0169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18B8-5B91-4AA9-9809-4F1A38B7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9213-8880-469C-B632-6009E037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D170-656D-4134-A17A-166C2C39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81F0-5559-4A19-8D13-2D7553DA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50D8-B4A7-4E21-A1DD-6AB70EB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6727-8BB7-4985-B1E3-DF3597F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180F-52FD-4ED2-9DBE-964FD171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99D-5CAF-44EF-8357-661D9EF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E82B-FC7B-4259-ACA0-054D1A65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4076-619C-4627-8388-E86A5FB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1730-F658-4DB9-8EE2-387CA13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82A0-6AE8-4B24-890B-FAE0C43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D883-BD98-4CEE-B19C-30D5245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8957-E2F6-4118-B8EB-CB4529AE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D5F9-1946-4AC9-91ED-38AE41AA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BA3C-0CA0-45DC-996E-E9E3B440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9F09-1DBA-4BBE-BB7A-967B8B1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F695-CA86-4BED-BC0A-FF8234E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A50-FDD7-47CE-BE42-365B6336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D13D-C577-45BC-995E-C851DF7B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C39E-D261-416F-8E91-F632487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A31C-3DEB-4321-9E36-6A4F08B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2F57-E86C-4B2C-90B1-00C1732F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F7E1-F7FC-4A5F-B1D0-FE9B282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1821-AF07-4ACA-9050-B2CB0A1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962E-DD65-450A-8B68-84953C5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96FE-908E-44E1-A042-1594D44B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D00C-5B69-4EBB-B7FD-54DCD340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4961-2595-4EA3-BA69-4DF7C5E2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A90-09B2-42F4-B91A-8AE09248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3939-EA24-4659-B2EE-9D3166EE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98D9-B054-48F7-9F35-8DA5BAE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811AF-0097-4E28-9654-692AA71E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8FE9-C393-4ED9-9ED5-64DA579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17A9-033D-4404-975D-35557A70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6030F-DF23-4C54-A04A-0D70547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758C-3F74-406A-95F2-3D3FD12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F217-34D0-4C56-ACB7-A8E5C63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DE66-9378-4A6C-9FA1-134C991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9535-CB36-466C-AE48-6422223A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8E1-6A60-460A-955A-9C97FBA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0E1F0-6BE3-4BB0-B939-98AB4D98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05FA-20C0-4D17-B9D4-4465DA2A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C0DB-EB0D-45F0-AB3B-2CAE60B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E53E-1E3D-4F6E-83E3-603FBB1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B105-5686-4E4A-A805-DA67307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03E0-0D4B-467A-983D-EDC9C3B7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D5D0-0820-4A78-B63B-208D20F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6EB5-1678-4F6B-B863-C0AA601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15C0-141B-49E8-B95D-4A720BF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9D368-E125-40DA-A9B7-F5F8215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72F-F713-4B84-BAD3-62F1E93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F29F-05D2-465A-96EE-27FDB50F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A039-1CDE-421F-8056-93BB4D4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0C53-E6DD-4D61-9433-827D881F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879-AF71-4A70-B260-1DAD014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0FF-6B5E-4627-BDCB-2234D0B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4F5-FFEA-4EC3-9C14-9CEB88FB79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A5DA-10B6-4539-8660-4FCBE729CC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F17-545C-4085-B60C-D6C1328CF1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552-C7F5-44A2-A8A9-A599D4DD2C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BBD-123D-4F59-B975-9D4B0CD371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FD2D-BD74-4041-9E52-0D375EDC48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627280" y="333360"/>
            <a:ext cx="1727280" cy="1488960"/>
            <a:chOff x="2627280" y="333360"/>
            <a:chExt cx="1727280" cy="1488960"/>
          </a:xfrm>
        </p:grpSpPr>
        <p:sp>
          <p:nvSpPr>
            <p:cNvPr id="281" name="Pyr1"/>
            <p:cNvSpPr/>
            <p:nvPr/>
          </p:nvSpPr>
          <p:spPr>
            <a:xfrm>
              <a:off x="3299400" y="333360"/>
              <a:ext cx="387000" cy="329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yr2"/>
            <p:cNvSpPr/>
            <p:nvPr/>
          </p:nvSpPr>
          <p:spPr>
            <a:xfrm>
              <a:off x="3075120" y="663120"/>
              <a:ext cx="833400" cy="387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yr3"/>
            <p:cNvSpPr/>
            <p:nvPr/>
          </p:nvSpPr>
          <p:spPr>
            <a:xfrm>
              <a:off x="2853360" y="1050480"/>
              <a:ext cx="1276920" cy="386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yr4"/>
            <p:cNvSpPr/>
            <p:nvPr/>
          </p:nvSpPr>
          <p:spPr>
            <a:xfrm>
              <a:off x="2627280" y="1435320"/>
              <a:ext cx="1727280" cy="387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403280" y="4653000"/>
            <a:ext cx="2518920" cy="1828800"/>
            <a:chOff x="1403280" y="4653000"/>
            <a:chExt cx="2518920" cy="1828800"/>
          </a:xfrm>
        </p:grpSpPr>
        <p:sp>
          <p:nvSpPr>
            <p:cNvPr id="286" name=""/>
            <p:cNvSpPr/>
            <p:nvPr/>
          </p:nvSpPr>
          <p:spPr>
            <a:xfrm>
              <a:off x="2009520" y="5026320"/>
              <a:ext cx="1298160" cy="1120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3280" y="6108480"/>
              <a:ext cx="745920" cy="37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9600" y="4653000"/>
              <a:ext cx="746280" cy="3733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76280" y="6108480"/>
              <a:ext cx="745920" cy="3733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ubChord"/>
          <p:cNvSpPr/>
          <p:nvPr/>
        </p:nvSpPr>
        <p:spPr>
          <a:xfrm rot="16983600">
            <a:off x="5219640" y="2819160"/>
            <a:ext cx="1761840" cy="17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>
            <a:off x="4572000" y="4941720"/>
            <a:ext cx="1324080" cy="132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Triangle"/>
          <p:cNvSpPr/>
          <p:nvPr/>
        </p:nvSpPr>
        <p:spPr>
          <a:xfrm rot="20176800">
            <a:off x="7451280" y="2707920"/>
            <a:ext cx="1397160" cy="1397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16720" y="4611600"/>
            <a:ext cx="2627280" cy="2246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687800">
            <a:off x="93240" y="2276280"/>
            <a:ext cx="930276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убный час - соревнование "Математическое многоборье"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 rot="20730600">
            <a:off x="324000" y="549360"/>
            <a:ext cx="1582560" cy="1560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003640" y="88920"/>
            <a:ext cx="17082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 rot="20496000">
            <a:off x="1545840" y="2349000"/>
            <a:ext cx="1513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6877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4800" y="2061720"/>
            <a:ext cx="647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+ 4 =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- 4 : 4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· 4 =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+ 4 : 4 =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32558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280" y="44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ние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г  на короткие диста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4249800" cy="32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4360" y="558972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Юрий Борзаковский –    олимпийский 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180360" cy="5662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640" y="-5436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Продолжите ряд чисел – допишите 4 числ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А) 18,9,16,8,….                                      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Б) 27,32,37,42….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В) 1,2,3,5,8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Проверь себ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А) 18,9,16,8,14,7,12,6,10,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                                       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Б) 27,32,37,42,47,52,57,6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В) 1,2,3,5,8,13,21,34,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9640" y="-316080"/>
            <a:ext cx="4176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тание коп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2806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103640" cy="316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3671640" cy="3384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1112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80" y="5445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Мария Абакумова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Олимпийская чемпио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08000" y="426960"/>
            <a:ext cx="934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ставьте математические знаки, которые нужно использовать при выполне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велич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величить в несколько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в несколько р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увеличить на несколько единиц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на несколько единиц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величить в несколько раз(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в несколько раз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бол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мен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больше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меньше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55640" y="-2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ние №7.                     Бег с препятств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32040" y="3860640"/>
            <a:ext cx="2524320" cy="266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08000" y="3141720"/>
            <a:ext cx="31906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490920" y="1557360"/>
            <a:ext cx="2952720" cy="2095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588000" y="2998800"/>
            <a:ext cx="242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375" name="img_0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2397240" cy="3240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1397160"/>
            <a:ext cx="828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ась в Набережных Челнах, Татарстан. Выступает в беге на 1500 и 5000 м, неоднократно становилась чемпионкой России на этих дистанциях, однако коронным видом Гульнары является стипль-чез — бег с препятствиями на 3000 м. В этом виде легкоатлетической программы ей принадлежит рекорд мира, установленный в 2004 году, и побитый ей же на Олимпиаде в Пекин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503280" y="290520"/>
            <a:ext cx="95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ульнара Самитова-Гал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Решите задач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 соревнованиях по бегу Антон, Кирилл и                     Слава заняли первые три места. Какое место занял каждый из ребят, если Кирилл занял не второе и не третье, а Слава не третье ме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уроке физкультуры нужно было прыгнуть в длину с места на 90 см. В первый раз Даше не хватило до нормы 20 см. Во второй она перепрыгнула норму на 2 см. На сколько см второй результат Даши больше первого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4200" y="1889280"/>
            <a:ext cx="79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группа объединённых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портивных состязаний,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остоящих из  упражнений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одном каком –либо или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нескольких видах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(Толковый словарь. Ушаков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484360" y="1243080"/>
            <a:ext cx="576108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ногоборье -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место – Кирил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место – Сл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есто – Ан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результат – 70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результат – 9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больше на 2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5120" y="-10008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8.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Синхронное пла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442880" y="1411200"/>
            <a:ext cx="2408400" cy="2881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2382840" cy="2860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1120" y="4387680"/>
            <a:ext cx="3062520" cy="2354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076720" y="4394160"/>
            <a:ext cx="3951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9640" y="304560"/>
            <a:ext cx="79790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 сколько частей разделится лист бумаги четырьмя прямыми линиями, проходящими через одну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умайте, как разрезать эту фигуру на 4 равные и одинаковые по форме части, чтобы сумма чисел в каждой из них равнялось 2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700360" y="2797200"/>
          <a:ext cx="3887280" cy="3681000"/>
        </p:xfrm>
        <a:graphic>
          <a:graphicData uri="http://schemas.openxmlformats.org/drawingml/2006/table">
            <a:tbl>
              <a:tblPr/>
              <a:tblGrid>
                <a:gridCol w="971640"/>
                <a:gridCol w="972360"/>
                <a:gridCol w="971640"/>
                <a:gridCol w="971640"/>
              </a:tblGrid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108000" y="22860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Задание № 9 – Фехтование</a:t>
            </a: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3170160"/>
            <a:ext cx="4067280" cy="3067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537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ыпишите числа которые находя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оманда: в          ,           и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оманда: в     и         , но не в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оманда: не в           и не в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1700280"/>
            <a:ext cx="863640" cy="433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00720" y="1773360"/>
            <a:ext cx="863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1628640"/>
            <a:ext cx="360360" cy="4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7664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2349360"/>
            <a:ext cx="72072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88000" y="2349360"/>
            <a:ext cx="86364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2852640"/>
            <a:ext cx="107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9440" y="285264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24000" y="3500280"/>
            <a:ext cx="45370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3573360"/>
            <a:ext cx="1800360" cy="295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35280" y="4365720"/>
            <a:ext cx="4032360" cy="1657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500720" y="443700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4800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6920" y="4365720"/>
            <a:ext cx="505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6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360" y="400536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75280" y="3925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3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0364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5157720"/>
            <a:ext cx="86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3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       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530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515772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3272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rot="19942800">
            <a:off x="-396720" y="2592000"/>
            <a:ext cx="2009520" cy="213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 rot="1426800">
            <a:off x="7249680" y="2519280"/>
            <a:ext cx="1785960" cy="213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403280" y="1292400"/>
            <a:ext cx="5977080" cy="5565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Comic Sans MS"/>
              </a:rPr>
              <a:t>Задание №1. Разминка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Наибольшее двузна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Какова продолжительность трёх периодов хоккейного мат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У какого слона нет хоб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На какой счёт в знаменитой считалке вышел зайчик  погул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-Стоит в поле дуб. На дубе три яблока. Ехал добрый молодец и сорвал одно яблоко. Сколько яблок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280" y="43920"/>
            <a:ext cx="7559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Задание №2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трельба из лу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4070520"/>
            <a:ext cx="3203640" cy="2787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724360" y="403380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31845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0356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2060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3666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322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4653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57546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12682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3068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73600" y="28018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55280" y="409896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95680"/>
            <a:ext cx="2087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76360" y="3019320"/>
            <a:ext cx="5745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692360" y="453060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84360" y="30189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56360" y="2060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6360" y="213372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227280" y="3644640"/>
            <a:ext cx="108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85080" y="4076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300720" y="537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6000" y="111240"/>
            <a:ext cx="838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Расставьте любые цифры в кружки так, чтобы стрелка всегда была направлена от кружка с большей цифрой к кружку с меньш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11937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851280" y="3546360"/>
            <a:ext cx="1806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66400" y="228600"/>
            <a:ext cx="617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 3.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Эстафе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032000" cy="3384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176720" cy="3322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788000" y="152712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ь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тные 5, 6, 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-459000"/>
            <a:ext cx="7416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Прыжки в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608360" cy="3743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5111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8353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3887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4000" y="1303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лена Исинбаева – многократная Олимпийская чемпи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683160" y="3716280"/>
            <a:ext cx="196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9180360" cy="5473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108000" y="549360"/>
            <a:ext cx="92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Расставь знаки и скобки так, чтобы       получились верные равенства.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06160" y="1773000"/>
            <a:ext cx="38862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24Z</dcterms:created>
  <dc:creator>user</dc:creator>
  <dc:description/>
  <dc:language>en-US</dc:language>
  <cp:lastModifiedBy>user</cp:lastModifiedBy>
  <dcterms:modified xsi:type="dcterms:W3CDTF">2011-11-26T15:44:38Z</dcterms:modified>
  <cp:revision>18</cp:revision>
  <dc:subject/>
  <dc:title>Слайд 1</dc:title>
</cp:coreProperties>
</file>